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581-4C5D-4D2C-9E86-36A2678A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B49-1818-4975-9371-EFA875EB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E8B-19C6-48E4-AA4D-8CF7A658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0D4-86BC-414E-844A-91A45D00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5110-5801-4525-A602-752F5925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289-2EB6-4161-9181-46B49A5D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653-DD09-4C1C-A5EC-48BB58D8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BE5-2AE2-40B4-9537-CE2D9A28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257-58C5-422C-939E-5C52BBCA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002-555A-48A2-A117-8DFAA7E2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C09-15D0-4713-92DF-92F23918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61C1-4DA1-4B89-A25C-78715ED7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0C28-7699-4402-A9B4-FA387C4FB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43828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ROCKS THAT FOR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FROM AN ACCUMULATION OF SEDIMENTS DERIVED FROM PREEXISTING ROCKS AND/OR ORGANIC MATERIAL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457200"/>
            <a:ext cx="5410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dimentary Rocks </a:t>
            </a:r>
            <a:endParaRPr b="0" lang="en-US" sz="2400" spc="1" strike="noStrike">
              <a:ln w="19080">
                <a:solidFill>
                  <a:srgbClr val="c0c0c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280" y="380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IS RESULTS IN A CRYSTALLINE MASS OF INTERGROWN MINERAL CRYS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14479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  <a:ea typeface="Times New Roman"/>
              </a:rPr>
              <a:t>Examples</a:t>
            </a: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657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LOST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FIZZES WHEN POW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4572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OCK SAL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SAME PROPERTIES OF HAL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5410080"/>
            <a:ext cx="91440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OCK GYPSU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SAME PROPERTIES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YPS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362320"/>
            <a:ext cx="822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IMEST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COMPOSED PRIMARILY OF CALCITE; FIZZES WITH H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afec8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18288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FORM FROM THE REMAINS OF LIVING THINGS OR ROCKS CONTAINING FOSS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767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LIMESTONES (FIZZES IN HCL)-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CONTAINS SHEL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4197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OAL (SOOTY)-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BURIAL OF DECAYED PLANTS; SWAM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562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SSILIFEROUS SH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SHALE CONTAINING FOSS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2767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380880"/>
            <a:ext cx="79912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rganic (Bioclastic) Sedimentary Rocks </a:t>
            </a:r>
            <a:endParaRPr b="0" lang="en-US" sz="2400" spc="1" strike="noStrike">
              <a:ln w="19080">
                <a:solidFill>
                  <a:srgbClr val="99cc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1066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STRATIFIC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67652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S THE ARRANGEMENT OF DIFFERENT VISIBLE LAYERS OF ROCK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WHEN THE TYPE OF SEDIMENTS FOUND IN AN AREA CHANGE, A NEW TYPE OF SEDIMENTARY ROCK FO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.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55627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52480" y="228600"/>
            <a:ext cx="54104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dimentary Features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4_Fig1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556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fosslst" descr=""/>
          <p:cNvPicPr/>
          <p:nvPr/>
        </p:nvPicPr>
        <p:blipFill>
          <a:blip r:embed="rId1"/>
          <a:stretch/>
        </p:blipFill>
        <p:spPr>
          <a:xfrm>
            <a:off x="0" y="2819520"/>
            <a:ext cx="4876920" cy="2904840"/>
          </a:xfrm>
          <a:prstGeom prst="rect">
            <a:avLst/>
          </a:prstGeom>
          <a:ln w="0">
            <a:noFill/>
          </a:ln>
        </p:spPr>
      </p:pic>
      <p:pic>
        <p:nvPicPr>
          <p:cNvPr id="93" name="coquina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3886200" cy="3556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088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RE THE REMAINS, IMPRESSIONS, OR ANY OTHER EVIDENCE OF PLANTS AND ANIMALS PRESERVED IN R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04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FOSSI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191120" y="228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RIPPLE MARKS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68580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RE FORMED BY THE ACTION OF WINDS, STREAMS, WAVES, AND CURRENTS ON SAND, AND FORM ON THE SURFACE OF BEDDING PLA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MUD CRACKS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52578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EVELOP WHEN DEPOSITS OF WET CLAY DRY UP AND CONTRAC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b_mud_cracks_l" descr=""/>
          <p:cNvPicPr/>
          <p:nvPr/>
        </p:nvPicPr>
        <p:blipFill>
          <a:blip r:embed="rId1"/>
          <a:stretch/>
        </p:blipFill>
        <p:spPr>
          <a:xfrm>
            <a:off x="5257800" y="3200400"/>
            <a:ext cx="3306600" cy="3306600"/>
          </a:xfrm>
          <a:prstGeom prst="rect">
            <a:avLst/>
          </a:prstGeom>
          <a:ln w="0">
            <a:noFill/>
          </a:ln>
        </p:spPr>
      </p:pic>
      <p:pic>
        <p:nvPicPr>
          <p:cNvPr id="101" name="rapid-fossils-sea-sand-ripple-marks" descr=""/>
          <p:cNvPicPr/>
          <p:nvPr/>
        </p:nvPicPr>
        <p:blipFill>
          <a:blip r:embed="rId2"/>
          <a:srcRect l="-653" t="-614" r="0" b="8027"/>
          <a:stretch/>
        </p:blipFill>
        <p:spPr>
          <a:xfrm>
            <a:off x="152280" y="380880"/>
            <a:ext cx="4008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952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RE HOLLOW SPHERES IN WHICH GROUNDWATER HAS DEPOSITED MIN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09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GE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hoyas_big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7772400" cy="5181480"/>
          </a:xfrm>
          <a:prstGeom prst="rect">
            <a:avLst/>
          </a:prstGeom>
          <a:ln w="0">
            <a:noFill/>
          </a:ln>
        </p:spPr>
      </p:pic>
      <p:pic>
        <p:nvPicPr>
          <p:cNvPr id="105" name="Geodes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  <a:ea typeface="Times New Roman"/>
              </a:rPr>
              <a:t>THREE KINDS OF SEDIMENTARY ROC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2362320"/>
            <a:ext cx="31525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astic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81080" y="3809880"/>
            <a:ext cx="49532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emical (Crystalline) </a:t>
            </a:r>
            <a:endParaRPr b="0" lang="en-US" sz="2400" spc="1" strike="noStrike">
              <a:ln w="19080">
                <a:solidFill>
                  <a:srgbClr val="969696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81280" y="5410080"/>
            <a:ext cx="50292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333333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rganic (Bioclastic) </a:t>
            </a:r>
            <a:endParaRPr b="0" lang="en-US" sz="2400" spc="1" strike="noStrike">
              <a:ln w="19080">
                <a:solidFill>
                  <a:srgbClr val="333333"/>
                </a:solidFill>
                <a:miter/>
              </a:ln>
              <a:solidFill>
                <a:srgbClr val="8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9320" y="152388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FORM FROM SOLID FRAGMENTS (SEDIMENTS) OF OTHER ROCKS.  EXAMPLES:  SHALE, SANDSTONE, CONGLOM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33526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EDIMENTS COME FROM THE WEATHERING OF EXISTING ROCKS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49528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&gt;     -&gt;     -&gt;   -&gt;    -&gt;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mal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715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LDERS, PEBBLES, SAND, SILT, C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4876920"/>
            <a:ext cx="1352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808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rgest</a:t>
            </a:r>
            <a:endParaRPr b="0" lang="en-US" sz="2400" spc="1" strike="noStrike">
              <a:ln w="19080">
                <a:solidFill>
                  <a:srgbClr val="80808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304920"/>
            <a:ext cx="72388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ASTIC SEDIMENTARY ROCK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4419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67652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FRAGMENTS ARE MOVED MOSTLY BY RUNNING WATER. WINDS, WAVES, AND GLACIERS ALSO MOVE PARTICLES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33526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FARTHER A PARTICLE TRAVELS THE ROUNDER IT BECOM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64832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ROCK FRAGMENTS SEPARATE THROUGH HORIZONTAL AND VERTICAL SORT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380880"/>
            <a:ext cx="8458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ansportation and Sorting of Sediments</a:t>
            </a:r>
            <a:endParaRPr b="0" lang="en-US" sz="2400" spc="1" strike="noStrike">
              <a:ln w="19080">
                <a:solidFill>
                  <a:srgbClr val="c0c0c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gradedbedding" descr=""/>
          <p:cNvPicPr/>
          <p:nvPr/>
        </p:nvPicPr>
        <p:blipFill>
          <a:blip r:embed="rId2"/>
          <a:srcRect l="0" t="30597" r="10600" b="0"/>
          <a:stretch/>
        </p:blipFill>
        <p:spPr>
          <a:xfrm>
            <a:off x="533520" y="4419720"/>
            <a:ext cx="297180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hsort" descr=""/>
          <p:cNvPicPr/>
          <p:nvPr/>
        </p:nvPicPr>
        <p:blipFill>
          <a:blip r:embed="rId3"/>
          <a:stretch/>
        </p:blipFill>
        <p:spPr>
          <a:xfrm>
            <a:off x="609480" y="4343400"/>
            <a:ext cx="3024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0574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S THE COMPACTION AND CEMENTATION OF ROCK FRAGMENTS THAT FORM SEDIMENTARY ROCKS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6015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962520"/>
            <a:ext cx="59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THE LARGER THE SEDIMENTS IN THE ROCK THE MORE PERMEABLE (ABILITY TO LET WATER PASS THROUGH) THE R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3880" y="380880"/>
            <a:ext cx="6172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Lithificati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990720"/>
            <a:ext cx="7772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GLOMERAT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IS A MIXTURE OF LARG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ROUNDED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PEBBLES CEMENTED TOGETHER BY SMALLER SEDI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590920"/>
            <a:ext cx="6705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BRECCIA HAS ANGULAR FRAGMENT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89109_02sm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3733560" cy="2801880"/>
          </a:xfrm>
          <a:prstGeom prst="rect">
            <a:avLst/>
          </a:prstGeom>
          <a:ln w="0">
            <a:noFill/>
          </a:ln>
        </p:spPr>
      </p:pic>
      <p:pic>
        <p:nvPicPr>
          <p:cNvPr id="67" name="breccia" descr=""/>
          <p:cNvPicPr/>
          <p:nvPr/>
        </p:nvPicPr>
        <p:blipFill>
          <a:blip r:embed="rId3"/>
          <a:srcRect l="0" t="14257" r="30925" b="5399"/>
          <a:stretch/>
        </p:blipFill>
        <p:spPr>
          <a:xfrm>
            <a:off x="5029200" y="3873600"/>
            <a:ext cx="373392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d4aa"/>
            </a:gs>
            <a:gs pos="100000">
              <a:srgbClr val="33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andstone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4094280" cy="280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1371600"/>
            <a:ext cx="8077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NDSTONES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RE MADE LARGELY OF QUARTZ GRAINS. (PERMEABL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b0d7b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hale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5623200" cy="4435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380880"/>
            <a:ext cx="7620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AL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FORMS FROM THE COMPACTION OF TINY FLAKES OF CLAY. (IMPERMEABL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00"/>
            </a:gs>
            <a:gs pos="100000">
              <a:srgbClr val="fecba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373392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MAIN CAUSE FOR DISSOLVED MINERALS TO PRECIPITATE, OR DROP OUT OF THE WATER, IS EVAPORATION. (SHALLOW SEA ENVIRONMEN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0574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 FROM THE PRECIPITATION OF MINERALS OUT OF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533520"/>
            <a:ext cx="8010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emical (Crystalline) Sedimentary Rocks </a:t>
            </a:r>
            <a:endParaRPr b="0" lang="en-US" sz="2400" spc="1" strike="noStrike">
              <a:ln w="19080">
                <a:solidFill>
                  <a:srgbClr val="969696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4:15:05Z</dcterms:created>
  <dc:creator>Joseph Felipe</dc:creator>
  <dc:description/>
  <dc:language>en-US</dc:language>
  <cp:lastModifiedBy>Lakeland School District</cp:lastModifiedBy>
  <dcterms:modified xsi:type="dcterms:W3CDTF">2004-12-01T13:58:05Z</dcterms:modified>
  <cp:revision>5</cp:revision>
  <dc:subject/>
  <dc:title>PowerPoint Presentation</dc:title>
</cp:coreProperties>
</file>